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064-6BE8-4C25-A6E9-9F9F896A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4F19-9287-4A50-967E-031EB35E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6C3-4F45-4E37-8F80-B90419D9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B84-F08E-4B26-A72F-2966E7BD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255-76A3-4351-88D7-26D546BD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98D-205B-4ED0-B085-550EC734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C1B-AFAD-4D8A-91B0-3A520B98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5B9-5CDD-4FA7-98BB-77620C7F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12A-2420-48F1-8A34-9943C565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CA2-B299-417F-8FE9-8B8A91DC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5F3-CE57-406E-BA3C-21338D21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FED9-75D3-4ADB-9138-884B468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70CA-AC6B-4E38-B177-B6AA3A2AA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136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SchoolTex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fiction books give us true information. When we read non-fiction, we learn about true stuff. You can read the words or look a the photographs, maps or diagrams. These are al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n give us information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523880" y="685800"/>
            <a:ext cx="5738760" cy="34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choolText"/>
              </a:rPr>
              <a:t>Non-Fiction Features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choolText"/>
              <a:ea typeface="School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choolText"/>
              </a:rPr>
              <a:t>Photograph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SchoolTex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choolText"/>
              </a:rPr>
              <a:t>A photograph shows us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1920" y="5105160"/>
            <a:ext cx="8534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SchoolText"/>
              </a:rPr>
              <a:t>Caption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SchoolText"/>
              </a:rPr>
              <a:t>A caption tells us about a photograph or pic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hoolText"/>
              </a:rPr>
              <a:t>This is The Lowell School in Watert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choolText"/>
              </a:rPr>
              <a:t>It’s a great schoo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choolText"/>
              </a:rPr>
              <a:t>Labels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SchoolText"/>
              </a:rPr>
              <a:t>A label will tell you the name of something</a:t>
            </a:r>
            <a:r>
              <a:rPr b="0" lang="en-US" sz="4800" spc="-1" strike="noStrike">
                <a:solidFill>
                  <a:srgbClr val="000000"/>
                </a:solidFill>
                <a:latin typeface="SchoolTex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5337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choolText"/>
              </a:rPr>
              <a:t>Illustration or Drawings</a:t>
            </a:r>
            <a:br>
              <a:rPr sz="4800"/>
            </a:br>
            <a:r>
              <a:rPr b="0" lang="en-US" sz="4400" spc="-1" strike="noStrike">
                <a:solidFill>
                  <a:srgbClr val="000000"/>
                </a:solidFill>
                <a:latin typeface="SchoolText"/>
              </a:rPr>
              <a:t>Shows us a pictu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350496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1625760"/>
            <a:ext cx="560088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choolText"/>
              </a:rPr>
              <a:t>Map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SchoolText"/>
              </a:rPr>
              <a:t>A map tells us where something is</a:t>
            </a:r>
            <a:r>
              <a:rPr b="1" lang="en-US" sz="4800" spc="-1" strike="noStrike">
                <a:solidFill>
                  <a:srgbClr val="000000"/>
                </a:solidFill>
                <a:latin typeface="SchoolText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2485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SchoolText"/>
              </a:rPr>
              <a:t>Diagram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SchoolText"/>
              </a:rPr>
              <a:t>To show what something is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8242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333399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SchoolText"/>
              </a:rPr>
              <a:t>Title</a:t>
            </a:r>
            <a:br>
              <a:rPr sz="5400"/>
            </a:br>
            <a:r>
              <a:rPr b="0" lang="en-US" sz="4800" spc="-1" strike="noStrike">
                <a:solidFill>
                  <a:srgbClr val="000000"/>
                </a:solidFill>
                <a:latin typeface="SchoolText"/>
              </a:rPr>
              <a:t>To name the book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173480" cy="4191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33720" y="1295280"/>
            <a:ext cx="198108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34:03Z</dcterms:created>
  <dc:creator>ACox</dc:creator>
  <dc:description/>
  <dc:language>en-US</dc:language>
  <cp:lastModifiedBy>ACox</cp:lastModifiedBy>
  <dcterms:modified xsi:type="dcterms:W3CDTF">2011-10-13T23:20:44Z</dcterms:modified>
  <cp:revision>9</cp:revision>
  <dc:subject/>
  <dc:title>Slide 1</dc:title>
</cp:coreProperties>
</file>